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61C-A893-4EDB-8E74-5A45022C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5D9-260C-47DD-B102-9619CC19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C8B3-A286-4459-8AF1-509A6271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F7E-D0EE-4CD7-AE03-E50CAF9D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C2DE1-9039-41F0-A0AB-38279B8D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77480-37A9-43EE-894F-645C8B61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44B96-A3C6-4AE1-975B-C2111181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5A20E-CE98-45E4-AECD-A44CC7B4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A3337-CFCA-4B1C-AF95-ECF0547A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BA511-70D1-421C-8FBB-F909DF18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7C06F-1A89-4464-A372-A1BE00BB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80E3-7F33-42D8-9919-F493C0F8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6547C-F897-410F-AB5D-8FFE203F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5068B-22B3-4336-A065-D384B33D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AAE86-C1A8-4C5D-B685-202493F6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1A453-D22E-414E-89EC-CBDF9DDF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20523-2472-4086-A1ED-196B3463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AB3-9DB4-4159-A6D9-DE984476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43B-0B4A-409B-AA46-0B0FAF72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6C9-FA04-402C-966F-5D5937F3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7406-713D-4F27-937A-6BAE1801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77BD-62EF-4874-879E-D6E5B17D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DCF8-214F-43AD-9159-EB45F7E5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959-F21E-4C85-8E3A-F6F4B28F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1BD8-F0C5-44E5-BF27-F0640E146BA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454B-88EC-498F-8540-F34E0DAA054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njour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26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onjour. Ça va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onjour. Ça va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Ç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 va bi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Ç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 va bi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Merci,  Merci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u revoir, Au revoi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alut! Salut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16:52:31Z</dcterms:created>
  <dc:creator>Santa</dc:creator>
  <dc:description/>
  <dc:language>en-US</dc:language>
  <cp:lastModifiedBy>Barbara Harper</cp:lastModifiedBy>
  <dcterms:modified xsi:type="dcterms:W3CDTF">2006-03-24T21:32:38Z</dcterms:modified>
  <cp:revision>1</cp:revision>
  <dc:subject/>
  <dc:title>Bonjour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28729526</vt:r8>
  </property>
  <property fmtid="{D5CDD505-2E9C-101B-9397-08002B2CF9AE}" pid="3" name="_AuthorEmail">
    <vt:lpwstr>petersc@wardenpark.co.uk</vt:lpwstr>
  </property>
  <property fmtid="{D5CDD505-2E9C-101B-9397-08002B2CF9AE}" pid="4" name="_AuthorEmailDisplayName">
    <vt:lpwstr>Peters, Cathy</vt:lpwstr>
  </property>
  <property fmtid="{D5CDD505-2E9C-101B-9397-08002B2CF9AE}" pid="5" name="_EmailSubject">
    <vt:lpwstr>KS2</vt:lpwstr>
  </property>
  <property fmtid="{D5CDD505-2E9C-101B-9397-08002B2CF9AE}" pid="6" name="_ReviewingToolsShownOnce">
    <vt:lpwstr/>
  </property>
</Properties>
</file>